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649-24AD-4D9D-A22F-C590C2DE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6CE4-645C-4D85-8557-31AB08D4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D255-CEA0-43F4-AC13-3F4F457C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585-C141-4167-BB1A-1FC73F0B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E37-12E6-471D-AD4B-B2C25AB2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B76-0DD9-4939-B993-496EBE77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1CC-E6CF-4272-97B2-27925058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4B24-AD88-4CC2-A61C-FD32DCB5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7EC9-449C-4972-A4CA-9B8AF23C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ACC-E42F-4B0E-B164-7B217791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AD3-5B7E-41DC-A248-2F52F529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53B-63BE-49BE-8C5F-3020F450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24C6-2483-4F84-BE52-BCC603398FF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76120" y="2637000"/>
            <a:ext cx="86360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إخو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امرأه العزي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السج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76120" y="981000"/>
            <a:ext cx="8529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64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558972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برة والعظة وتصديق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1757520" y="981000"/>
            <a:ext cx="7135560" cy="62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4"/>
          <a:stretch/>
        </p:blipFill>
        <p:spPr>
          <a:xfrm>
            <a:off x="2217600" y="2744640"/>
            <a:ext cx="667872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5"/>
          <a:stretch/>
        </p:blipFill>
        <p:spPr>
          <a:xfrm>
            <a:off x="4054320" y="5013360"/>
            <a:ext cx="4838760" cy="67320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3429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تلاء واختب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324000" y="1628640"/>
            <a:ext cx="8569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لا بعد ما بذلوا ما في وسعهم من الدعو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6"/>
          <a:stretch/>
        </p:blipFill>
        <p:spPr>
          <a:xfrm>
            <a:off x="195120" y="2637000"/>
            <a:ext cx="875376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29600" cy="1248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66880" y="5013360"/>
            <a:ext cx="38102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76120" y="198900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الرسل مع أقوام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622520" y="1052640"/>
            <a:ext cx="72705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4072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86544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515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4000" y="11192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943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صر يأتي مع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ر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ع العس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س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صر الله لأوليائه مهما تأخر الن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تيق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يأس من إيمان الناس وهدايت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نة الله تعالى في تأخير نزول النصر على رسله و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زيادة في الابتلاء وال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227160" y="37958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قرآن الكري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فيه هداية ورحمة ل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1763640" y="981000"/>
            <a:ext cx="7113600" cy="269244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4427640" y="162864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تاب كله صد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4427640" y="234936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صيل لكل شي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4427640" y="2997360"/>
            <a:ext cx="4052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324000" y="162864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ح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324000" y="234936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395280" y="2997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دق كل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9T10:59:27Z</dcterms:modified>
  <cp:revision>2036</cp:revision>
  <dc:subject/>
  <dc:title>عرض تقديمي في PowerPoint</dc:title>
</cp:coreProperties>
</file>